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4.wmf" ContentType="image/x-wmf"/>
  <Override PartName="/ppt/media/image27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2C2B-922B-4887-B928-FF570D7CA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24CD-7399-4A83-9E4E-44E884429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7AE1-D509-4E74-996E-208B698C7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7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6536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09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7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6536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F870-EA4E-462B-9845-3726C4DB1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376-5A19-49C4-BB81-9279DC6881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68A-BCD5-468C-A421-5B5C89DA2C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340-D139-4C13-9392-D1352C5D18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B92-D352-4E9A-91D0-18969F408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8AE-4CCF-43D7-A954-6DD4A53171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77680" y="0"/>
            <a:ext cx="80420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A6A-27D6-4053-ACB2-2916F92D30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8F3-B909-44AE-98A3-6505FCD12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94E7-216B-4E97-9899-48E013EDD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B38-72A2-4249-9768-FA3A750C1F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1E8-14D6-416B-A140-14744FD1E5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9E3-DE60-4357-816D-2C29AD2A48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EDB-AE74-4062-A969-E0F87CCBB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37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536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9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37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536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5A2-3484-411B-B19C-23367DD000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523C5-D300-45AD-8188-01C2C6ACF8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F9A8-562F-4E4E-A050-B288063A1F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D93E6-3200-4AEF-9113-D9562302A7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FC595-3D59-42E7-AA93-744BF46894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9BE44-46B3-40F2-9394-16B8ED42B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B0C8-9334-44F0-9A0C-F9A7A1822E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77680" y="0"/>
            <a:ext cx="80420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5F7A2-A8BC-496C-BF93-46A2BA94FA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3E25D-E567-448B-A5B7-F671C75B5D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AECF7-4F35-4FE5-9C82-F04B163640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2D739-4531-4EE1-8A1F-8CC094A37D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2B782-9AA9-42FB-A9FF-8C134BCB66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2D660-DCF0-40F1-BAD6-D4A0325065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7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6536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09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7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6536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FB533-BB6B-4ABB-B067-0532ACEF3D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29D3-B471-4263-91B7-8D601146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A057-272B-49B5-A3B6-85D7900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2117-90A7-41A9-B8AE-D1CDD4CC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E16D-43EA-4532-A2A5-DE6ED59DD1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B052-ED85-4A58-9C5F-546D9E0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8F09-398B-42B2-A3EC-CF638E0D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877680" y="0"/>
            <a:ext cx="80420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5E94-A6E4-4434-9531-83E58A1A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2C3C-4622-4F96-B27B-E8C0CA22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2140-AA6C-4147-8DCB-CADA2CBF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17AA-A562-47CB-9E29-882959C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8D51-7B33-4B35-A2A2-245CE31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FD4A-FFE0-40DD-876C-52121D42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3772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65360" y="11300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09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3772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65360" y="36583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DDFB-88CF-4418-98A1-0DD7D0C9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1978-E18F-480F-82A4-0597DB3E1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77680" y="0"/>
            <a:ext cx="80420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CD97-BA6E-4656-824B-8C3709B9D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8E9B-E340-484C-984F-218C3AA6E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2400" y="36583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8482-FBC7-4A7C-B4AD-154D70124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2400" y="11300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9720" y="36583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247B-9B91-42BD-92ED-D1C0DE4EC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4240" y="33660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938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604800" cy="539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943600" y="6248520"/>
            <a:ext cx="295128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61722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93920" y="6394320"/>
            <a:ext cx="476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659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23A-4DF0-495D-83A3-1DE451731F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258560" y="623700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5040" y="19512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8200" y="271440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5667480" y="536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604800" cy="53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43600" y="6248520"/>
            <a:ext cx="2951280" cy="380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61722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93920" y="6394320"/>
            <a:ext cx="476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3"/>
          </p:nvPr>
        </p:nvSpPr>
        <p:spPr>
          <a:xfrm>
            <a:off x="6659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447-5C83-422A-985D-5F0BB13144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1258560" y="623700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14240" y="33660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938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604800" cy="53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43600" y="6248520"/>
            <a:ext cx="295128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1722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93920" y="6394320"/>
            <a:ext cx="476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5"/>
          </p:nvPr>
        </p:nvSpPr>
        <p:spPr>
          <a:xfrm>
            <a:off x="6659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51A7-1F62-4CCB-8C0F-E78D30CE10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1258560" y="623700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5040" y="19512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8200" y="271440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A0D-BCF6-4AB8-8536-FF90BA3DB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89080" y="5253120"/>
            <a:ext cx="33764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Universitä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202360"/>
            <a:ext cx="1073160" cy="115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67480" y="536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03640" y="5300640"/>
            <a:ext cx="3368880" cy="587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964040" y="5900760"/>
            <a:ext cx="417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URL: www.tkn.tu-berlin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kn.tu-berlin.de/research/mongolia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hoene@ieee.org" TargetMode="External"/><Relationship Id="rId2" Type="http://schemas.openxmlformats.org/officeDocument/2006/relationships/hyperlink" Target="http://www.tkn.tu-berlin.de/~hoene/" TargetMode="External"/><Relationship Id="rId3" Type="http://schemas.openxmlformats.org/officeDocument/2006/relationships/hyperlink" Target="http://www.tkn.tu-berlin.de/~hoene/" TargetMode="External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 Myths about Wi-Fi VoIP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Vision of Next Generation Wi-Fi VoIP Telephon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istian Ho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el Sofitel, Paris Ber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1197" t="13206" r="47994" b="14807"/>
          <a:stretch/>
        </p:blipFill>
        <p:spPr>
          <a:xfrm>
            <a:off x="5364000" y="404640"/>
            <a:ext cx="331344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8442-960A-4848-BC02-A51FC54D57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09720" y="1109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e with human perception in mi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losses and delays are importan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have very complex relation to qu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1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. Hoene, H. Karl, and A. Wolisz, "A Perceptual Quality Model Intended Adaptive VoIP Applications",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pecial Issue Performance Evaluation of Wireless Networks and Communications of the Computer Communications Journal, Elsevi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May 2005, to be publis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2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. Möller, “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E-Model: A Analysis of the Source and Comparison with Published and New Test Results”, ITU Study Group 12 – Contribution 37, Dec. 1997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3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. Hoene, S. Wiethölter, and A. Wolisz, "Predicting the Perceptual Service Quality Using a Trace of VoIP Packets", I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c. of Fifth International Workshop on Quality of future Internet Services (QofIS'04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Barcelona, Spain, Sep. 2004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C013-0905-4E82-85D0-79678BBD98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2. Myth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0800" y="3266640"/>
            <a:ext cx="7859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VoIP call must ha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ll qu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2C2-8913-4466-8A2B-F64730E7CE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Toll Quality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l quality is the term normally given to commercially available voice service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measure 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 (Mean Opinion Sc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atic evaluation of call quality by human evalua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thing above good=4.0 is considered toll qua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the ITU‘s planning tool „E-Model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-factor &gt;70 is considered toll qua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ing on situ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dvantage factor has to be consid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26F72-83BD-471C-9F5C-DE7CFABBA9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Term Toll Quality is Arbitrary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rovider has a different cal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re good (and expensiv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s are bad (and often che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requirements depend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ome situations users are willing or are expecting a different level of quality provi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on cellular phones or satellite phones [4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F6C9-5830-48BD-B455-51D1132F3E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 call quality to requiremen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it is as good as possible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it better and charge more mone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it better to win more customers [5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4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U-T Recommendation G.107, “The E-model, a computational model for use in transmission planning Recommendation G.107”,  Mar. 200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5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. Holub, J.G. Beerends, R. Šmíd, ”A Dependence between Average Call Duration and Voice Transmission Quality: Measurement and Applications”, Proceedings of the Wireless Telecommunications Symposium 2004,  May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626A-79D9-4D9D-BEBB-80F4F3FCC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3. Myth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0800" y="3266640"/>
            <a:ext cx="7859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quality gets wors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the speech coding rat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E8C-61F0-4A40-96E3-909CA745D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de-off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ng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Multi-Rate (AMR) supports a coding rate from 4.75 to 12.2 kbit/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ate or Packe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R produces a speech frame every 20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r multiple speech frames are p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one Vo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ower coding rate decreases speech qu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ower packet rate increases del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5E0E-5C4E-4C26-8A4A-C58C3F2781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imited Bandwidth on an Ethernet-Link [1]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899400" cy="51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A638-34F6-4BFB-962D-68FFE2216E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imited Bandwidth on IEEE 802.11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899040" cy="51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D4C9-FD05-4D15-932F-90703FE8F0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wireless link is congest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i-Fi VoIP phone shall ada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oding rat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nly if already a low-rate coding is already applied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every VoIP packet has a large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 to packet headers (e.g. IEEE, LLC, IP, UDP, RT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 to MAC overhead (e.g. contention and collis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6F69-8388-4CC6-8AE2-3282806C3E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Myth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loss rate and 150 ms del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l qu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rate is import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decs are enoug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y is just narrow-band spee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loss rate is signific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ignal strength for location based servic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BBE9-CDA4-472C-A606-901EE3B108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4. Myth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0800" y="3266640"/>
            <a:ext cx="7859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odecs are enough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00D-5F8B-4051-A072-F8AD834417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eterogeneous End Termin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09720" y="981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P phones are used for all kind of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other VoIP 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alogue ph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SDN phones using G.711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T telephones using G.726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SM telephones using GSM, GSM-FR, GSM-H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MTS phones using AMR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P phones call others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ly over an IP-backbone (fine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a PSTN gateway (fin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6C5B-5931-4B3F-ADF3-1E50D29160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andem-Coding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TN gateways conv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(from SIP or H.323 to SS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P speech flows to PSTN conn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oding of speech sig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odecs in row are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dem-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dem-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eases speech quality signific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s latency (because of algorithmic delay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BA69-2363-4D50-B829-B36E0E4590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ne codec end-to-end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roblem if VoIP on both end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hone shall support codec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STN ph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G.711, G.726, GSM, AMR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s shall be transcoding-f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IP phones shall supp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cs of all common PSTN ph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6089-AA1D-44DF-9D88-073F0E407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5. Myth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910800" y="3266640"/>
            <a:ext cx="7859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hony is narrow-band spee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5D1-94D3-4810-BA5E-4DC453AF06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ld day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TN is narrow-band (N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kbit/s sampling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kbit/s frequency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input fil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asons for VoIP to stick to N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wide-band (double bandwidth) bett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asons for VoIP to stick to W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75C9-A1C0-4BD9-A18F-6FC5E08F1D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gh Fidelity Wi-Fi Vo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ull bandwidth of human hear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 Quality (stereo or 5.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 HiFi sys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sell it to teenager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pay also a lot for ring t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sician to play together on phon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low lat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-band is like black-and-white T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ill die so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: Latency, synchronization, code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519A-059A-4BDD-B266-83CA20309A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6. Myth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0800" y="3266640"/>
            <a:ext cx="7859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cket loss rate rel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peech qua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C63-7936-4836-96E6-2886A1999A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ing one Voice-Over-IP frame impai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erceptual quality in a wide range [6], dependin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rame speech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coder/decoder/concealment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rs resynchronization time after lo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specially low-rate decoders might maintain a wrong state after loss for the following frames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rrounding spee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Discontinuous Transmission (DT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frames during silence are less impor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frame rate during si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BB17-C226-454E-A598-230D20E952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asuring the Importance of a VoIP fra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42498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PESQ to measu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oss of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ech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ech frames differ larg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42187" b="36892"/>
          <a:stretch/>
        </p:blipFill>
        <p:spPr>
          <a:xfrm>
            <a:off x="4788000" y="1413000"/>
            <a:ext cx="3995640" cy="720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36080" y="907920"/>
            <a:ext cx="27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Mean Importance [MOS*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-20073" t="0" r="-17912" b="0"/>
          <a:stretch/>
        </p:blipFill>
        <p:spPr>
          <a:xfrm>
            <a:off x="0" y="2060640"/>
            <a:ext cx="9144000" cy="47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6218-20E2-4B59-ACE9-B35DC9B183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esentations cover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aspects of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of VoIP over WIF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ry, no signaling asp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asic background is require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you probable have learned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reshed during the last d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show: Seven common statements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ong or, at leas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eci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C48D-AE1C-4758-B051-F34667461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SQ not verified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conduct listening tes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ESQ measure frame importances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body know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: Conduct formal listening-only tests! [7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: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umans cannot hear single frame losse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just can hear multiple frame lo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drop multiple similar fram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Q can identify similar fr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BF2B-39AA-4787-AE3C-DC533D1723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ust try it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tkn.tu-berlin.de/research/mongoli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25440" y="936720"/>
          <a:ext cx="8817120" cy="592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936720"/>
                    <a:ext cx="881712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9F13-F78C-43EE-A71B-723BB77ECB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13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3AFF-4126-4737-97DD-610A6214D5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3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13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370560" y="2133720"/>
            <a:ext cx="1081080" cy="71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4941720"/>
            <a:ext cx="108108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6138720"/>
            <a:ext cx="108108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F7A7-D759-4E59-B976-1B5B6A6166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13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332000" y="6138720"/>
            <a:ext cx="108108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46920" y="4076640"/>
            <a:ext cx="1081080" cy="1368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D79A-982B-405F-81DB-AE08CE633A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000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13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332000" y="6138720"/>
            <a:ext cx="108108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6920" y="4076640"/>
            <a:ext cx="1081080" cy="1368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2679-01D2-4AEA-A8EF-2264F2CAD9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0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Human LQS-MOS vs. PESQ LQO-M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98508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11D7-D1C0-44B3-95F1-998905E914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peech Frames – Dropping Strategy [8]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3080" y="1268280"/>
            <a:ext cx="4859280" cy="4859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71880" y="1130040"/>
            <a:ext cx="3810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t packets in cases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f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ving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ropping the unimportant frames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or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ropping the important frames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ames lo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rop first silent frames, then active frames (random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262D-4543-49F3-ADE7-728DD1AC66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rcRect l="-19890" t="0" r="-13984" b="0"/>
          <a:stretch/>
        </p:blipFill>
        <p:spPr>
          <a:xfrm>
            <a:off x="0" y="46080"/>
            <a:ext cx="8964720" cy="6696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flipV="1">
            <a:off x="3462480" y="4741920"/>
            <a:ext cx="0" cy="1557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1809360" y="4741560"/>
            <a:ext cx="16527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619360" y="4746240"/>
            <a:ext cx="0" cy="155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7680" y="41497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414972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D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A278-A8D0-4671-8254-D5765003FB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frames and VoIP differ grea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have to be dropped, drop unimportant packets fir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6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. Hoene, B. Rathke, and A. Wolisz, "On the Importance of a VoIP Packet", I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c. of ISCA Tutorial and Research Workshop on th Auditory Quality of System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Herne, Germany, April 2003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7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. Hoene and E. Dulamsuren-Lalla, "Predicting Performance of PESQ in Case of Single Frame Losses", I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c. of MESAQIN 200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Prague, CZ, June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8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. Hoene, S. Wiethölter, and A. Wolisz, "Calculation of Speech Quality by Aggregating the Impacts of Individual Frame Losses", I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c. of Thirteenth International Workshop on Quality of Service (IWQoS 2005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Passau, Germany, June 200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2A9B-929C-48B1-A587-4C4F354C82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1. Myth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0800" y="3266640"/>
            <a:ext cx="7859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VoIP call must not ha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oss rate higher than 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twork delay of 150 ms or larger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r any other arbitrary set of valu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CD0-4B98-4FC4-9F30-B83704ED5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7920" y="12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7. Myth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0800" y="3266640"/>
            <a:ext cx="823284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stance between two WLAN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measured best wit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d Signal Strength Indication (RSS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E30-2F64-4B81-A84E-ABCD9C4397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ion Based Serv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P needs location based service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911 ca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nema/theater/conference vibration ala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ed value added ser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LAN based LBS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PS, outdo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 signal strength indication and triangulation to access points, indo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SSI is imprecise and requires area ma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0B50-4FF0-4CA4-9916-08D7D673698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asuring Round Trip Tim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77440" cy="49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5B63-1E62-4978-B255-196256078E0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ound Trip Time (RTT) and Dista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9720" y="3625560"/>
            <a:ext cx="777240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-the-shelf WLAN cards: Resolution of 1 µ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it really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0" r="27292" b="0"/>
          <a:stretch/>
        </p:blipFill>
        <p:spPr>
          <a:xfrm>
            <a:off x="250920" y="1628640"/>
            <a:ext cx="8459640" cy="1025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4390920" cy="46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8CE4-3844-4BB2-A433-55C5F1739E9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ments using IEEE 802.11b Prism II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909720" y="1130040"/>
            <a:ext cx="7772400" cy="4840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066160" cy="42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E4CD-09A4-4EC5-B946-23445F4DFF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mental Resul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480360" cy="47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C45C-652F-4EEF-A1AB-B372743E93E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2. Experiments: Using Latest Chip Set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09720" y="443700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ing outdoors with 802.11g and 802.11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heros and Prism GT (First is bett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is better than RSSI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32130" t="0" r="30086" b="0"/>
          <a:stretch/>
        </p:blipFill>
        <p:spPr>
          <a:xfrm>
            <a:off x="468360" y="1052640"/>
            <a:ext cx="4103640" cy="3628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rcRect l="31837" t="0" r="30379" b="0"/>
          <a:stretch/>
        </p:blipFill>
        <p:spPr>
          <a:xfrm>
            <a:off x="4356000" y="981000"/>
            <a:ext cx="410364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7EB6-869C-4A4E-81FA-5C994B0488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ime vs. Distance Preci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0" t="0" r="-23455" b="0"/>
          <a:stretch/>
        </p:blipFill>
        <p:spPr>
          <a:xfrm>
            <a:off x="1258920" y="1052640"/>
            <a:ext cx="7200720" cy="558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87D4-C400-44FB-8DE1-75C480D73F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out special hardw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RTT values are requ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1000 values you get nearly perfect accura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measure it during an ongoing transmi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, not additional traffic is requ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VoIP call  an distance update every 50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9] A. Günther and Ch. Hoene, "Measuring Round Trip Times to Determine the Distance between WLAN Nodes", I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c. of Networking 200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Waterloo, Canada, May 2005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C34B-A962-4D00-9A89-35C40FBD48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64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antial reductio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important fra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ransmi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RTT instead RSS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ceptual quality model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ail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oene@iee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tkn.tu-berlin.de/~hoene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6300720" y="2637000"/>
            <a:ext cx="835200" cy="19810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5508720" y="0"/>
            <a:ext cx="1458720" cy="2189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7128000" y="2852640"/>
            <a:ext cx="2016000" cy="2519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>
            <a:lum contrast="28000"/>
          </a:blip>
          <a:stretch/>
        </p:blipFill>
        <p:spPr>
          <a:xfrm>
            <a:off x="7524720" y="476280"/>
            <a:ext cx="898560" cy="22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A955-F1E1-4C2A-9D73-4C7FDCAA52E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an Loss Rate vs. Speech Quality [1]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11280" y="5589360"/>
            <a:ext cx="5400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3GPP Adaptive Multi-Rate Coding (AMR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s coding rates from 4.75 to 12.2 kbit/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3049" t="0" r="0" b="4024"/>
          <a:stretch/>
        </p:blipFill>
        <p:spPr>
          <a:xfrm>
            <a:off x="2162160" y="1238400"/>
            <a:ext cx="5578560" cy="4062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rot="16200000">
            <a:off x="-400320" y="2697480"/>
            <a:ext cx="4535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 quality (M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519264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packet loss rate [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EE25-3B8F-4C6B-A16B-BDFB84656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act of Delay on Call Quality [2]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51640" cy="5184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6680" y="1298520"/>
            <a:ext cx="2587680" cy="337320"/>
          </a:xfrm>
          <a:prstGeom prst="borderCallout2">
            <a:avLst>
              <a:gd name="adj1" fmla="val 18750"/>
              <a:gd name="adj2" fmla="val -8333"/>
              <a:gd name="adj3" fmla="val 19356"/>
              <a:gd name="adj4" fmla="val -2944"/>
              <a:gd name="adj5" fmla="val 91787"/>
              <a:gd name="adj6" fmla="val -36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T (human test resul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2276640"/>
            <a:ext cx="1724040" cy="3373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421"/>
              <a:gd name="adj5" fmla="val 178888"/>
              <a:gd name="adj6" fmla="val -6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U E-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4819680"/>
            <a:ext cx="280368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2717"/>
              <a:gd name="adj5" fmla="val -397013"/>
              <a:gd name="adj6" fmla="val -9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lcore (human test resul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986E-DA7E-4554-9B1B-2F80F8A91A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ow to Judge the Quality of a Call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the quality of a Wifi-Voice syst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her packet loss rates, mean dela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but inaccu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end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rvice qu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or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 based listening tests are extensive and expensi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 P.862 (PESQ algorithm) measures speech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s original sample with the transmitted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s Mean Option Score (MOS) (1=bad, 5=excell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 G.107 (E-Model) predicts quality of tel.-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s echo, loudness, coding, packet loss rate, delay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: R Factor (0=bad, 100=excell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F6F4-6363-47E9-85AC-3177143F75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ssessing a Trace of VoIP Pack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9720" y="11300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Q and E-Model cannot judge the impact o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packet delay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aptive playout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 losses are considered to be random but sometimes depend on the content and context of the speech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pplicable to assess VoIP packets trac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ing from simulations or 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solu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different playout schedulers and encoding sche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 von E-Model and PESQ [3]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conversation formula approved by the ITU as standard extens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SQ calculate speech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-Model to combine MOS rating and transmission de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5C40-C62D-4F4F-AE9C-C61C4F9477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7680" y="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peech Quality and Transmission Dela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835280"/>
            <a:ext cx="8569080" cy="2530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763640" y="4869000"/>
            <a:ext cx="5769000" cy="75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9A4E-BDA2-4EF5-9300-410637AA1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7:58:59Z</dcterms:created>
  <dc:creator>Christian Hoene</dc:creator>
  <dc:description/>
  <dc:language>en-US</dc:language>
  <cp:lastModifiedBy>Christian Hoene</cp:lastModifiedBy>
  <dcterms:modified xsi:type="dcterms:W3CDTF">2005-05-13T06:33:28Z</dcterms:modified>
  <cp:revision>134</cp:revision>
  <dc:subject/>
  <dc:title>Adaptive Sicherungsschicht zur Optimierung der interaktiven Sprachübertragung in drahtlosen, lokalen Zugangsnetzen</dc:title>
</cp:coreProperties>
</file>