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.wmf" ContentType="image/x-wmf"/>
  <Override PartName="/ppt/media/image8.png" ContentType="image/png"/>
  <Override PartName="/ppt/media/image14.jpeg" ContentType="image/jpeg"/>
  <Override PartName="/ppt/media/image18.png" ContentType="image/png"/>
  <Override PartName="/ppt/media/image3.wmf" ContentType="image/x-wmf"/>
  <Override PartName="/ppt/media/image15.jpeg" ContentType="image/jpeg"/>
  <Override PartName="/ppt/media/image16.jpeg" ContentType="image/jpeg"/>
  <Override PartName="/ppt/media/image2.wmf" ContentType="image/x-wmf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Marc Fouquet" initials="M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6-05-22T09:51:39.433000000" idx="1">
    <p:pos x="10" y="10"/>
    <p:text>Die Aufzählung sieht nicht schön aus (Abstände zum Bullet, Einrückung)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8920" y="377568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3276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517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245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89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517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245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3276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78920" y="377568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3276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517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24520" y="84744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789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0517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24520" y="3775680"/>
            <a:ext cx="273564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32760" y="377568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2760" y="847440"/>
            <a:ext cx="414612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3775680"/>
            <a:ext cx="8496360" cy="26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76032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20000" y="765000"/>
              <a:ext cx="324000" cy="609300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25040" y="765000"/>
              <a:ext cx="318960" cy="6089760"/>
            </a:xfrm>
            <a:prstGeom prst="rect">
              <a:avLst/>
            </a:prstGeom>
            <a:solidFill>
              <a:srgbClr val="a1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9720" y="6553080"/>
              <a:ext cx="314280" cy="304920"/>
            </a:xfrm>
            <a:prstGeom prst="rect">
              <a:avLst/>
            </a:prstGeom>
            <a:solidFill>
              <a:srgbClr val="a1b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20000" y="0"/>
              <a:ext cx="324000" cy="7603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41920"/>
              <a:ext cx="8823240" cy="3175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75888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53724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23240" y="0"/>
              <a:ext cx="0" cy="68580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4696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7280" y="6548400"/>
              <a:ext cx="853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6120"/>
                  <a:tab algn="r" pos="70531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xt Generation Wi-Fi VoIP Phones</a:t>
              </a:r>
              <a:r>
                <a:rPr b="0" lang="de-DE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fld id="{DE16C33E-3F95-4024-B23F-BCC7151F7A3B}" type="slidenum"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2"/>
            <a:stretch/>
          </p:blipFill>
          <p:spPr>
            <a:xfrm>
              <a:off x="169920" y="149400"/>
              <a:ext cx="51444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3240"/>
            <a:ext cx="9144000" cy="6864480"/>
            <a:chOff x="0" y="-3240"/>
            <a:chExt cx="9144000" cy="6864480"/>
          </a:xfrm>
        </p:grpSpPr>
        <p:sp>
          <p:nvSpPr>
            <p:cNvPr id="54" name=""/>
            <p:cNvSpPr/>
            <p:nvPr/>
          </p:nvSpPr>
          <p:spPr>
            <a:xfrm>
              <a:off x="0" y="-3240"/>
              <a:ext cx="9144000" cy="112248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Verdana"/>
                </a:rPr>
                <a:t>                    </a:t>
              </a:r>
              <a:r>
                <a:rPr b="0" lang="de-DE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465120" y="231840"/>
              <a:ext cx="72216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36840" y="1125360"/>
              <a:ext cx="6032520" cy="49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099120"/>
              <a:ext cx="1600200" cy="75888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119240"/>
              <a:ext cx="1608120" cy="497988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96960" y="6093000"/>
              <a:ext cx="7547040" cy="765000"/>
            </a:xfrm>
            <a:prstGeom prst="rect">
              <a:avLst/>
            </a:prstGeom>
            <a:solidFill>
              <a:srgbClr val="7a8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19280" y="4221000"/>
              <a:ext cx="59770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24720" y="0"/>
              <a:ext cx="1619280" cy="1106640"/>
            </a:xfrm>
            <a:prstGeom prst="rect">
              <a:avLst/>
            </a:prstGeom>
            <a:solidFill>
              <a:srgbClr val="7a8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321680" y="6211800"/>
              <a:ext cx="1726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524720" y="1116000"/>
              <a:ext cx="1619280" cy="497700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09912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596960" y="1112760"/>
              <a:ext cx="0" cy="574848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11276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31200" y="6480"/>
              <a:ext cx="0" cy="60926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47640" y="122400"/>
              <a:ext cx="46087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Lehrstuhl für Rechnernetze und 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Wilhelm-Schickard-Institut für Informat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Universität Tübi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ga.org/cgi-bin/templates/single.html?topic=35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slashphone.com/86/2493.html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yton_M._Christensen" TargetMode="External"/><Relationship Id="rId2" Type="http://schemas.openxmlformats.org/officeDocument/2006/relationships/slide" Target=""/><Relationship Id="rId3" Type="http://schemas.openxmlformats.org/officeDocument/2006/relationships/hyperlink" Target="http://en.wikipedia.org/wiki/Disruptive_technology" TargetMode="External"/><Relationship Id="rId4" Type="http://schemas.openxmlformats.org/officeDocument/2006/relationships/hyperlink" Target="http://en.wikipedia.org/wiki/Disruptive_technology" TargetMode="External"/><Relationship Id="rId5" Type="http://schemas.openxmlformats.org/officeDocument/2006/relationships/hyperlink" Target="http://en.wikipedia.org/wiki/Image:Disruptivetechnology.gif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Generation Wi-Fi VoIP ph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-Ing. Christian Ho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ät Tüb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QPC Conference Vo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lin, 5th July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IQPC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260280"/>
            <a:ext cx="1476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WLAN is a Disruptive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is a low-end disru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is good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ypical wireless phones a few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is a new-market dis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other 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VoWLAN has to  ev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s in addition to speech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harging and ro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speech coding beyond narrow-ban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Internet cod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1: Location Based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needs location based service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911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ma/theater/conference vibration al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value added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6480" y="1413000"/>
            <a:ext cx="1662120" cy="207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87560" y="1413000"/>
            <a:ext cx="2754360" cy="207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012000" y="1413000"/>
            <a:ext cx="1954080" cy="2082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 1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ositioning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LAN Location Based Services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doors: 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s:   received signal strength indication (RSS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of R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cise due to dynamic conditions inside a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strength decreases non linear with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ignal strength maps to relate RSSI to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have to be updated when environment chang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re time consuming to 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3117960" cy="11635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95440" y="1260360"/>
            <a:ext cx="7503840" cy="4564080"/>
            <a:chOff x="595440" y="1260360"/>
            <a:chExt cx="7503840" cy="4564080"/>
          </a:xfrm>
        </p:grpSpPr>
        <p:graphicFrame>
          <p:nvGraphicFramePr>
            <p:cNvPr id="156" name=""/>
            <p:cNvGraphicFramePr/>
            <p:nvPr/>
          </p:nvGraphicFramePr>
          <p:xfrm>
            <a:off x="826920" y="1260360"/>
            <a:ext cx="7272360" cy="4564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920" y="1260360"/>
                      <a:ext cx="7272360" cy="456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rot="16200000">
              <a:off x="-150840" y="44625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969696"/>
                  </a:solidFill>
                  <a:latin typeface="Trebuchet MS"/>
                </a:rPr>
                <a:t>Processing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-546120" y="2411640"/>
              <a:ext cx="25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969696"/>
                  </a:solidFill>
                  <a:latin typeface="Trebuchet MS"/>
                </a:rPr>
                <a:t>Round Trip Time (RT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1: Distance Measurement based on Round Trip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907920"/>
            <a:ext cx="3745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435640" y="5013360"/>
            <a:ext cx="3117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5.20231E-007 L 0.55903 -5.20231E-007 E">
                                      <p:cBhvr>
                                        <p:cTn id="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 1: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-   better than R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 works reliably for three different chip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update required for stand-alon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ver G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cost commercial WLAN hardware, since time-of-flight of a data packet estimated and NOT Time of Arrival (TOA) of pure RF-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precise, synchronized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ver RS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ime consuming initiation and map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measurements less prune to errors resulting from changing conditions in WLAN surrounding as compared to signal strength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 group 11u has recently added an interface for thi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2: Charging as Simple as Refu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hotspot has its own charg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ased on WWW interface and credit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000 different solutions for cha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no IETF standard for char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considers it out-of-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y assume that Internet usage shall be at no co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n Internet protocol for cha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WLAN phones do not have a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WLAN users cannot enter credit card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WLAN cannot use any arbitrary hot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 must be standardized if roaming shall be au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3: Better Speech Coding beyond Narrow-B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TN supports the transmission of narrow-band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band 300 – 34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, wide-band voice is supported (AMR-WB, iSAC (Skype)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band 150 – 62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-band speech codecs have been available more than 1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ave not been very success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Because wideband does not enable a new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ultra-wide bandwidth coding for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music over telephones with CD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ing-tone kids will lo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three low delay codec available: Speex, AAC-LD and AMR-W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eadsets and acoustic processing still ha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4: Efficient Internet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peech codecs have been design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TN (G.711, G.729, G.723.1, iLBC, iSAC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(GSM, AMR, AMR-WB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(MP3, AAC, WMF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metric: not bit rate but packe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oWLAN the packet rate is the limiting factor (refer to worksh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codings have not been optimized for low packe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orse: Recently research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speech codecs are not efficient if used i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4: Importance of VoIP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ing one Voice-Over-IP frame impai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ceptual quality in a wide range, depend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speech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coder/decoder/concealment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iscontinuous Transmission (DT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frames during silence are les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rame rate during si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search results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peech frames during voice activity are not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be dropped without any notabl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4: Speech Frames – Dropp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521964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4000" y="980640"/>
            <a:ext cx="36007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packets in case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reless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ing transmiss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ropping the unimportant fram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ropping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ram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T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rop first silent frames, then active frames (random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2492280"/>
            <a:ext cx="0" cy="295272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47600" y="40053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MOS 1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44720" y="50133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MOS 0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07672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744720" y="29973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rebuchet MS"/>
              </a:rPr>
              <a:t>MOS 2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07672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00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3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0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8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0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: First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e of the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VoWLAN, GSM, and D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-based Services with 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decs beyond Narrow-Band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et Cod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is a disruptiv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ill be judged according to new quality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s still a young technology, which has to e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earchers, we see a quite number features to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cope is about 5 year for the next generati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will be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cause it is technological 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because it has benefits that cannot be achieved with GSM or D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8920" y="847440"/>
            <a:ext cx="4172040" cy="5605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3240" y="847440"/>
            <a:ext cx="417204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: IEEE 802.11b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: WMM or WME for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WEP-WP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: 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and Signaling: RTP, S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cs: G.711, 723, 72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.729a/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ustics: Comfort noise generation (CNG), voice activity detection (VAD), adaptive jitter buffer and echo canc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y life: With 800mA battery-Four hours talk time-Sixty hours stand-by ti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198288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76360" y="476280"/>
            <a:ext cx="2644920" cy="403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273384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iemens Gigaset SL75">
            <a:hlinkClick r:id="rId5"/>
          </p:cNvPr>
          <p:cNvPicPr/>
          <p:nvPr/>
        </p:nvPicPr>
        <p:blipFill>
          <a:blip r:embed="rId6"/>
          <a:srcRect l="0" t="0" r="44669" b="0"/>
          <a:stretch/>
        </p:blipFill>
        <p:spPr>
          <a:xfrm>
            <a:off x="2411280" y="3789360"/>
            <a:ext cx="1484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VoWLAN with GSM and DECT Ph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 technology is used for cellula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a recent Nokia GSM/UMTS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117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: BL-5C Li-Ion (970m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by time: 144 - 288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k time: 3,3 - 6,4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range: up to 35 k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: 34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T technology is used for cordless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iemens Gigaset S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12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: NiMH AAA (750 m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by time: up to 15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k time: up to 1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: up to 3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Range: 50 m (indoor) and 300 m (outdo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: 7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VoWLAN a better technology than GSM or D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836640"/>
            <a:ext cx="123336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095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Times of VoWLAN Ph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692280"/>
          <a:ext cx="7993080" cy="58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93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10800000">
            <a:off x="684360" y="1701360"/>
            <a:ext cx="62168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E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3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yxel ePhone P2000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1000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Times of a GSM Ph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692280"/>
          <a:ext cx="7993080" cy="58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93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 rot="10800000">
            <a:off x="684360" y="1701360"/>
            <a:ext cx="62168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E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3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yxel ePhone P2000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1000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353440" cy="57596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25360"/>
            <a:ext cx="1655640" cy="100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E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Times of a DECT Phone – even be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9640" y="692280"/>
          <a:ext cx="7993080" cy="58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93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rot="10800000">
            <a:off x="684360" y="1701360"/>
            <a:ext cx="62168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E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3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yxel ePhone P2000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STarcom F1000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765000"/>
            <a:ext cx="8353440" cy="57596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9000"/>
            <a:ext cx="1295280" cy="19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g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125360"/>
            <a:ext cx="1655640" cy="100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E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VoWLAN, GSM, vs. D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ange than 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power consumption than DECT/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tandby times than DECT/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imes than DECT/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prices than D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oWLAN any good at 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we here at this con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based upon Internet (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young technology and will enh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other qualities than talk times, standby times, 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WLAN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4171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 defined by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. M. Christen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he Innovator's Dilem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isruptive technology is 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chnological innov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roduct, or service that eventuall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turns the exi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ominant technology or produ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the marke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ruptive technology is radically different from the existing technology and is oft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as good as the establish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chnology, in terms of expectations of most profitable customers. But a disruptive techno-logy or innovation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ple, inexpensive, and conven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end disru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 targets customers who do not need the full perform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-market disru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rgets customers who could previously not be served profitably by the incumbent.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n.wikipedia.org/wiki/Disruptive_techn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ruptive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How low-end disruption occurs over time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628640"/>
            <a:ext cx="46432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7:58:59Z</dcterms:created>
  <dc:creator>Christian Hoene</dc:creator>
  <dc:description/>
  <dc:language>en-US</dc:language>
  <cp:lastModifiedBy>Christian Hoene v2</cp:lastModifiedBy>
  <dcterms:modified xsi:type="dcterms:W3CDTF">2006-07-05T06:21:34Z</dcterms:modified>
  <cp:revision>189</cp:revision>
  <dc:subject/>
  <dc:title>Adaptive Sicherungsschicht zur Optimierung der interaktiven Sprachübertragung in drahtlosen, lokalen Zugangsnetzen</dc:title>
</cp:coreProperties>
</file>