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86563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19280" y="1628640"/>
            <a:ext cx="590544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692360" y="3284280"/>
            <a:ext cx="5759280" cy="11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1692360" y="4514040"/>
            <a:ext cx="5759280" cy="11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619280" y="1628640"/>
            <a:ext cx="590544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692360" y="3284280"/>
            <a:ext cx="2810520" cy="11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43640" y="3284280"/>
            <a:ext cx="2810520" cy="11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1692360" y="4514040"/>
            <a:ext cx="2810520" cy="11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43640" y="4514040"/>
            <a:ext cx="2810520" cy="11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19280" y="1628640"/>
            <a:ext cx="590544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692360" y="3284280"/>
            <a:ext cx="1854360" cy="11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639960" y="3284280"/>
            <a:ext cx="1854360" cy="11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5587200" y="3284280"/>
            <a:ext cx="1854360" cy="11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1692360" y="4514040"/>
            <a:ext cx="1854360" cy="11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639960" y="4514040"/>
            <a:ext cx="1854360" cy="11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5587200" y="4514040"/>
            <a:ext cx="1854360" cy="11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19280" y="1628640"/>
            <a:ext cx="590544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692360" y="3284280"/>
            <a:ext cx="575928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619280" y="1628640"/>
            <a:ext cx="590544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692360" y="3284280"/>
            <a:ext cx="575928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19280" y="1628640"/>
            <a:ext cx="590544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692360" y="3284280"/>
            <a:ext cx="281052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3640" y="3284280"/>
            <a:ext cx="281052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19280" y="1628640"/>
            <a:ext cx="590544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1619280" y="1628640"/>
            <a:ext cx="5905440" cy="567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619280" y="1628640"/>
            <a:ext cx="590544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692360" y="3284280"/>
            <a:ext cx="2810520" cy="11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3640" y="3284280"/>
            <a:ext cx="281052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692360" y="4514040"/>
            <a:ext cx="2810520" cy="11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619280" y="1628640"/>
            <a:ext cx="590544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1692360" y="3284280"/>
            <a:ext cx="575928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619280" y="1628640"/>
            <a:ext cx="590544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692360" y="3284280"/>
            <a:ext cx="281052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43640" y="3284280"/>
            <a:ext cx="2810520" cy="11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43640" y="4514040"/>
            <a:ext cx="2810520" cy="11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19280" y="1628640"/>
            <a:ext cx="590544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692360" y="3284280"/>
            <a:ext cx="2810520" cy="11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3640" y="3284280"/>
            <a:ext cx="2810520" cy="11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692360" y="4514040"/>
            <a:ext cx="5759280" cy="11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19280" y="1628640"/>
            <a:ext cx="590544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692360" y="3284280"/>
            <a:ext cx="5759280" cy="11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1692360" y="4514040"/>
            <a:ext cx="5759280" cy="11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619280" y="1628640"/>
            <a:ext cx="590544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692360" y="3284280"/>
            <a:ext cx="2810520" cy="11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43640" y="3284280"/>
            <a:ext cx="2810520" cy="11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692360" y="4514040"/>
            <a:ext cx="2810520" cy="11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43640" y="4514040"/>
            <a:ext cx="2810520" cy="11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19280" y="1628640"/>
            <a:ext cx="590544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692360" y="3284280"/>
            <a:ext cx="1854360" cy="11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639960" y="3284280"/>
            <a:ext cx="1854360" cy="11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587200" y="3284280"/>
            <a:ext cx="1854360" cy="11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1692360" y="4514040"/>
            <a:ext cx="1854360" cy="11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639960" y="4514040"/>
            <a:ext cx="1854360" cy="11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5587200" y="4514040"/>
            <a:ext cx="1854360" cy="11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19280" y="1628640"/>
            <a:ext cx="590544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92360" y="3284280"/>
            <a:ext cx="575928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619280" y="1628640"/>
            <a:ext cx="590544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692360" y="3284280"/>
            <a:ext cx="281052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43640" y="3284280"/>
            <a:ext cx="281052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19280" y="1628640"/>
            <a:ext cx="590544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1619280" y="1628640"/>
            <a:ext cx="5905440" cy="567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19280" y="1628640"/>
            <a:ext cx="590544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692360" y="3284280"/>
            <a:ext cx="2810520" cy="11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43640" y="3284280"/>
            <a:ext cx="281052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692360" y="4514040"/>
            <a:ext cx="2810520" cy="11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19280" y="1628640"/>
            <a:ext cx="590544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92360" y="3284280"/>
            <a:ext cx="281052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43640" y="3284280"/>
            <a:ext cx="2810520" cy="11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43640" y="4514040"/>
            <a:ext cx="2810520" cy="11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19280" y="1628640"/>
            <a:ext cx="590544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692360" y="3284280"/>
            <a:ext cx="2810520" cy="11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43640" y="3284280"/>
            <a:ext cx="2810520" cy="11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692360" y="4514040"/>
            <a:ext cx="5759280" cy="11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image" Target="../media/image1.wmf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9440"/>
            <a:chOff x="0" y="0"/>
            <a:chExt cx="9144000" cy="685944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4000" cy="760320"/>
            </a:xfrm>
            <a:prstGeom prst="rect">
              <a:avLst/>
            </a:prstGeom>
            <a:solidFill>
              <a:srgbClr val="b7cb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820000" y="765000"/>
              <a:ext cx="324000" cy="6093000"/>
            </a:xfrm>
            <a:prstGeom prst="rect">
              <a:avLst/>
            </a:prstGeom>
            <a:solidFill>
              <a:srgbClr val="b7cb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25040" y="765000"/>
              <a:ext cx="318960" cy="6089760"/>
            </a:xfrm>
            <a:prstGeom prst="rect">
              <a:avLst/>
            </a:prstGeom>
            <a:solidFill>
              <a:srgbClr val="a1ac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829720" y="6553080"/>
              <a:ext cx="314280" cy="304920"/>
            </a:xfrm>
            <a:prstGeom prst="rect">
              <a:avLst/>
            </a:prstGeom>
            <a:solidFill>
              <a:srgbClr val="a1bb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820000" y="0"/>
              <a:ext cx="324000" cy="760320"/>
            </a:xfrm>
            <a:prstGeom prst="rect">
              <a:avLst/>
            </a:prstGeom>
            <a:solidFill>
              <a:srgbClr val="8b99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6541920"/>
              <a:ext cx="8823240" cy="317520"/>
            </a:xfrm>
            <a:prstGeom prst="rect">
              <a:avLst/>
            </a:prstGeom>
            <a:solidFill>
              <a:srgbClr val="8b99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758880"/>
              <a:ext cx="9144000" cy="0"/>
            </a:xfrm>
            <a:prstGeom prst="line">
              <a:avLst/>
            </a:prstGeom>
            <a:ln w="158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537240"/>
              <a:ext cx="91440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823240" y="0"/>
              <a:ext cx="0" cy="6858000"/>
            </a:xfrm>
            <a:prstGeom prst="line">
              <a:avLst/>
            </a:prstGeom>
            <a:ln w="158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6546960"/>
              <a:ext cx="9144000" cy="0"/>
            </a:xfrm>
            <a:prstGeom prst="line">
              <a:avLst/>
            </a:prstGeom>
            <a:ln w="158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" name="" descr=""/>
            <p:cNvPicPr/>
            <p:nvPr/>
          </p:nvPicPr>
          <p:blipFill>
            <a:blip r:embed="rId2"/>
            <a:stretch/>
          </p:blipFill>
          <p:spPr>
            <a:xfrm>
              <a:off x="169920" y="149400"/>
              <a:ext cx="514440" cy="471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6920" y="47520"/>
            <a:ext cx="7848720" cy="6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body"/>
          </p:nvPr>
        </p:nvSpPr>
        <p:spPr>
          <a:xfrm>
            <a:off x="178920" y="847440"/>
            <a:ext cx="8496360" cy="56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39560" indent="-43956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7296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76480" indent="-360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3510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890720" indent="-36036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890720" indent="-36036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890720" indent="-36036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287280" y="6548400"/>
            <a:ext cx="8532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956120"/>
                <a:tab algn="r" pos="70531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Tit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8829720" y="6553080"/>
            <a:ext cx="314280" cy="304920"/>
          </a:xfrm>
          <a:prstGeom prst="rect">
            <a:avLst/>
          </a:prstGeom>
          <a:solidFill>
            <a:srgbClr val="a1bb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93A36-CBF4-4154-9B5B-23283728ED5A}" type="slidenum">
              <a:rPr b="1" lang="de-DE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1536840" y="1125360"/>
            <a:ext cx="6032520" cy="49676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-3240"/>
            <a:ext cx="9144000" cy="1122480"/>
          </a:xfrm>
          <a:prstGeom prst="rect">
            <a:avLst/>
          </a:prstGeom>
          <a:solidFill>
            <a:srgbClr val="8b9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                    </a:t>
            </a: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441360" y="231840"/>
            <a:ext cx="722160" cy="6760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0" y="6099120"/>
            <a:ext cx="1600200" cy="758880"/>
          </a:xfrm>
          <a:prstGeom prst="rect">
            <a:avLst/>
          </a:prstGeom>
          <a:solidFill>
            <a:srgbClr val="8b9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1112760"/>
            <a:ext cx="1608120" cy="4980240"/>
          </a:xfrm>
          <a:prstGeom prst="rect">
            <a:avLst/>
          </a:prstGeom>
          <a:solidFill>
            <a:srgbClr val="b7cb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596960" y="6093000"/>
            <a:ext cx="7547040" cy="765000"/>
          </a:xfrm>
          <a:prstGeom prst="rect">
            <a:avLst/>
          </a:prstGeom>
          <a:solidFill>
            <a:srgbClr val="7a89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4221000"/>
            <a:ext cx="5977080" cy="18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524720" y="0"/>
            <a:ext cx="1619280" cy="1106640"/>
          </a:xfrm>
          <a:prstGeom prst="rect">
            <a:avLst/>
          </a:prstGeom>
          <a:solidFill>
            <a:srgbClr val="7a89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524720" y="1116000"/>
            <a:ext cx="1619280" cy="4977000"/>
          </a:xfrm>
          <a:prstGeom prst="rect">
            <a:avLst/>
          </a:prstGeom>
          <a:solidFill>
            <a:srgbClr val="b7cb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6099120"/>
            <a:ext cx="9144000" cy="0"/>
          </a:xfrm>
          <a:prstGeom prst="line">
            <a:avLst/>
          </a:prstGeom>
          <a:ln w="158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596960" y="1112760"/>
            <a:ext cx="0" cy="5748480"/>
          </a:xfrm>
          <a:prstGeom prst="line">
            <a:avLst/>
          </a:prstGeom>
          <a:ln w="158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0" y="1112760"/>
            <a:ext cx="9144000" cy="0"/>
          </a:xfrm>
          <a:prstGeom prst="line">
            <a:avLst/>
          </a:prstGeom>
          <a:ln w="158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531200" y="6480"/>
            <a:ext cx="0" cy="6092640"/>
          </a:xfrm>
          <a:prstGeom prst="line">
            <a:avLst/>
          </a:prstGeom>
          <a:ln w="158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500120" y="131760"/>
            <a:ext cx="487224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Lehrstuhl für Netzarchitekturen und Netzdiens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nstitut für Informati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echnische Universität Münch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19280" y="1628640"/>
            <a:ext cx="590544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539640" y="6165720"/>
            <a:ext cx="528840" cy="5763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5"/>
          <a:stretch/>
        </p:blipFill>
        <p:spPr>
          <a:xfrm>
            <a:off x="7164360" y="6218280"/>
            <a:ext cx="1752480" cy="5238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4136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81612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77920" algn="ctr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53036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53036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53036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619280" y="1628640"/>
            <a:ext cx="590544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692360" y="3284280"/>
            <a:ext cx="575928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5T12:30:01Z</dcterms:created>
  <dc:creator>maren</dc:creator>
  <dc:description/>
  <dc:language>en-US</dc:language>
  <cp:lastModifiedBy>maren</cp:lastModifiedBy>
  <dcterms:modified xsi:type="dcterms:W3CDTF">2010-03-05T12:44:48Z</dcterms:modified>
  <cp:revision>3</cp:revision>
  <dc:subject/>
  <dc:title>Folie 1</dc:title>
</cp:coreProperties>
</file>