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399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8720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923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399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58720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19280" y="1628640"/>
            <a:ext cx="5905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399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8720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6923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399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8720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19280" y="1628640"/>
            <a:ext cx="5905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76032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20000" y="765000"/>
              <a:ext cx="324000" cy="609300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25040" y="765000"/>
              <a:ext cx="318960" cy="6089760"/>
            </a:xfrm>
            <a:prstGeom prst="rect">
              <a:avLst/>
            </a:prstGeom>
            <a:solidFill>
              <a:srgbClr val="a1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9720" y="6553080"/>
              <a:ext cx="314280" cy="304920"/>
            </a:xfrm>
            <a:prstGeom prst="rect">
              <a:avLst/>
            </a:prstGeom>
            <a:solidFill>
              <a:srgbClr val="a1b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20000" y="0"/>
              <a:ext cx="324000" cy="7603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41920"/>
              <a:ext cx="8823240" cy="3175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75888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53724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23240" y="0"/>
              <a:ext cx="0" cy="68580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4696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169920" y="149400"/>
              <a:ext cx="514440" cy="4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7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351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87280" y="6548400"/>
            <a:ext cx="85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829720" y="6553080"/>
            <a:ext cx="314280" cy="304920"/>
          </a:xfrm>
          <a:prstGeom prst="rect">
            <a:avLst/>
          </a:prstGeom>
          <a:solidFill>
            <a:srgbClr val="a1b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96E8-8EB9-45C7-B99E-C37B444DCFD2}" type="slidenum"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36840" y="1125360"/>
            <a:ext cx="6032520" cy="496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3240"/>
            <a:ext cx="9144000" cy="112248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1360" y="231840"/>
            <a:ext cx="722160" cy="67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9120"/>
            <a:ext cx="1600200" cy="75888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12760"/>
            <a:ext cx="1608120" cy="498024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96960" y="6093000"/>
            <a:ext cx="7547040" cy="765000"/>
          </a:xfrm>
          <a:prstGeom prst="rect">
            <a:avLst/>
          </a:prstGeom>
          <a:solidFill>
            <a:srgbClr val="7a8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221000"/>
            <a:ext cx="5977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0"/>
            <a:ext cx="1619280" cy="1106640"/>
          </a:xfrm>
          <a:prstGeom prst="rect">
            <a:avLst/>
          </a:prstGeom>
          <a:solidFill>
            <a:srgbClr val="7a8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24720" y="1116000"/>
            <a:ext cx="1619280" cy="497700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912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96960" y="1112760"/>
            <a:ext cx="0" cy="57484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127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31200" y="6480"/>
            <a:ext cx="0" cy="60926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00120" y="131760"/>
            <a:ext cx="46087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hrstuhl für Netzarchitekturen und Netzdien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 fü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ische Universität Mün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164360" y="6165720"/>
            <a:ext cx="1812960" cy="58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77720" y="6127920"/>
            <a:ext cx="638280" cy="691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1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7792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303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0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0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45:00Z</dcterms:created>
  <dc:creator>maren</dc:creator>
  <dc:description/>
  <dc:language>en-US</dc:language>
  <cp:lastModifiedBy>maren</cp:lastModifiedBy>
  <dcterms:modified xsi:type="dcterms:W3CDTF">2010-03-05T12:46:15Z</dcterms:modified>
  <cp:revision>1</cp:revision>
  <dc:subject/>
  <dc:title>Folie 1</dc:title>
</cp:coreProperties>
</file>