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575928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692360" y="4514040"/>
            <a:ext cx="575928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692360" y="451404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43640" y="451404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39960" y="328428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587200" y="328428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692360" y="451404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39960" y="451404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587200" y="451404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692360" y="3284280"/>
            <a:ext cx="5759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575928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19280" y="1628640"/>
            <a:ext cx="590544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692360" y="451404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692360" y="3284280"/>
            <a:ext cx="5759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43640" y="451404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92360" y="4514040"/>
            <a:ext cx="575928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575928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692360" y="4514040"/>
            <a:ext cx="575928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92360" y="451404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43640" y="451404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39960" y="328428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87200" y="328428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692360" y="451404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39960" y="451404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587200" y="451404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575928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619280" y="1628640"/>
            <a:ext cx="590544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92360" y="451404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43640" y="451404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92360" y="4514040"/>
            <a:ext cx="575928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760320"/>
            </a:xfrm>
            <a:prstGeom prst="rect">
              <a:avLst/>
            </a:prstGeom>
            <a:solidFill>
              <a:srgbClr val="b7c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820000" y="765000"/>
              <a:ext cx="324000" cy="6093000"/>
            </a:xfrm>
            <a:prstGeom prst="rect">
              <a:avLst/>
            </a:prstGeom>
            <a:solidFill>
              <a:srgbClr val="b7c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25040" y="765000"/>
              <a:ext cx="318960" cy="6089760"/>
            </a:xfrm>
            <a:prstGeom prst="rect">
              <a:avLst/>
            </a:prstGeom>
            <a:solidFill>
              <a:srgbClr val="a1a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829720" y="6553080"/>
              <a:ext cx="314280" cy="304920"/>
            </a:xfrm>
            <a:prstGeom prst="rect">
              <a:avLst/>
            </a:prstGeom>
            <a:solidFill>
              <a:srgbClr val="a1bb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820000" y="0"/>
              <a:ext cx="324000" cy="760320"/>
            </a:xfrm>
            <a:prstGeom prst="rect">
              <a:avLst/>
            </a:prstGeom>
            <a:solidFill>
              <a:srgbClr val="8b9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41920"/>
              <a:ext cx="8823240" cy="317520"/>
            </a:xfrm>
            <a:prstGeom prst="rect">
              <a:avLst/>
            </a:prstGeom>
            <a:solidFill>
              <a:srgbClr val="8b9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758880"/>
              <a:ext cx="9144000" cy="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53724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23240" y="0"/>
              <a:ext cx="0" cy="685800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546960"/>
              <a:ext cx="9144000" cy="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2"/>
            <a:stretch/>
          </p:blipFill>
          <p:spPr>
            <a:xfrm>
              <a:off x="169920" y="149400"/>
              <a:ext cx="514440" cy="47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178920" y="847440"/>
            <a:ext cx="849636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9560" indent="-4395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7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6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351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90720" indent="-36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90720" indent="-36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90720" indent="-36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287280" y="6548400"/>
            <a:ext cx="8532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956120"/>
                <a:tab algn="r" pos="7053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829720" y="6553080"/>
            <a:ext cx="314280" cy="304920"/>
          </a:xfrm>
          <a:prstGeom prst="rect">
            <a:avLst/>
          </a:prstGeom>
          <a:solidFill>
            <a:srgbClr val="a1bb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D1D5-8ED3-47A6-AFE2-FE00B889A3FA}" type="slidenum">
              <a:rPr b="1" lang="de-DE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36840" y="1125360"/>
            <a:ext cx="6032520" cy="4967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-3240"/>
            <a:ext cx="9144000" cy="1122480"/>
          </a:xfrm>
          <a:prstGeom prst="rect">
            <a:avLst/>
          </a:prstGeom>
          <a:solidFill>
            <a:srgbClr val="8b9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41360" y="231840"/>
            <a:ext cx="722160" cy="67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099120"/>
            <a:ext cx="1600200" cy="758880"/>
          </a:xfrm>
          <a:prstGeom prst="rect">
            <a:avLst/>
          </a:prstGeom>
          <a:solidFill>
            <a:srgbClr val="8b9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112760"/>
            <a:ext cx="1608120" cy="4980240"/>
          </a:xfrm>
          <a:prstGeom prst="rect">
            <a:avLst/>
          </a:prstGeom>
          <a:solidFill>
            <a:srgbClr val="b7cb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96960" y="6093000"/>
            <a:ext cx="7547040" cy="765000"/>
          </a:xfrm>
          <a:prstGeom prst="rect">
            <a:avLst/>
          </a:prstGeom>
          <a:solidFill>
            <a:srgbClr val="7a89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4221000"/>
            <a:ext cx="59770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0"/>
            <a:ext cx="1619280" cy="1106640"/>
          </a:xfrm>
          <a:prstGeom prst="rect">
            <a:avLst/>
          </a:prstGeom>
          <a:solidFill>
            <a:srgbClr val="7a89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24720" y="1116000"/>
            <a:ext cx="1619280" cy="4977000"/>
          </a:xfrm>
          <a:prstGeom prst="rect">
            <a:avLst/>
          </a:prstGeom>
          <a:solidFill>
            <a:srgbClr val="b7cb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099120"/>
            <a:ext cx="9144000" cy="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596960" y="1112760"/>
            <a:ext cx="0" cy="574848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12760"/>
            <a:ext cx="9144000" cy="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31200" y="6480"/>
            <a:ext cx="0" cy="609264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00120" y="131760"/>
            <a:ext cx="46087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twork Architectures and Services, Georg Car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culty of Informa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chnische Universität Münche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39640" y="6165720"/>
            <a:ext cx="52884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164360" y="6218280"/>
            <a:ext cx="1752480" cy="523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161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7792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3036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30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30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92360" y="3284280"/>
            <a:ext cx="5759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2:30:01Z</dcterms:created>
  <dc:creator>maren</dc:creator>
  <dc:description/>
  <dc:language>en-US</dc:language>
  <cp:lastModifiedBy>maren</cp:lastModifiedBy>
  <dcterms:modified xsi:type="dcterms:W3CDTF">2010-03-05T12:42:59Z</dcterms:modified>
  <cp:revision>2</cp:revision>
  <dc:subject/>
  <dc:title>Folie 1</dc:title>
</cp:coreProperties>
</file>