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CF0D-24D2-4216-BE16-7E80D2BD8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7960" y="914040"/>
            <a:ext cx="8128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UM Neue Helvetica 75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828440"/>
            <a:ext cx="8128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7960" y="4097160"/>
            <a:ext cx="8128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BB47-A781-4C51-955E-3A3277BA7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7960" y="914040"/>
            <a:ext cx="8128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UM Neue Helvetica 75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7960" y="1828440"/>
            <a:ext cx="3966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160" y="1828440"/>
            <a:ext cx="3966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7960" y="4097160"/>
            <a:ext cx="3966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160" y="4097160"/>
            <a:ext cx="3966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F03F-50FE-4672-BF6E-E9AEA773E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7960" y="914040"/>
            <a:ext cx="8128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UM Neue Helvetica 75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7960" y="1828440"/>
            <a:ext cx="261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6200" y="1828440"/>
            <a:ext cx="261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4080" y="1828440"/>
            <a:ext cx="261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7960" y="4097160"/>
            <a:ext cx="261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6200" y="4097160"/>
            <a:ext cx="261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4080" y="4097160"/>
            <a:ext cx="261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8AAE-51E7-4EF4-9449-A759C2B07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7960" y="914040"/>
            <a:ext cx="8128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UM Neue Helvetica 75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7960" y="1828440"/>
            <a:ext cx="8128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7960" y="914040"/>
            <a:ext cx="8128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UM Neue Helvetica 75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7960" y="1828440"/>
            <a:ext cx="8128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7960" y="914040"/>
            <a:ext cx="8128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UM Neue Helvetica 75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7960" y="1828440"/>
            <a:ext cx="3966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1828440"/>
            <a:ext cx="3966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7960" y="914040"/>
            <a:ext cx="8128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UM Neue Helvetica 75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7960" y="914040"/>
            <a:ext cx="81280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7960" y="914040"/>
            <a:ext cx="8128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UM Neue Helvetica 75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7960" y="1828440"/>
            <a:ext cx="3966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1828440"/>
            <a:ext cx="3966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7960" y="4097160"/>
            <a:ext cx="3966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7960" y="914040"/>
            <a:ext cx="8128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UM Neue Helvetica 75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7960" y="1828440"/>
            <a:ext cx="8128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D39C-0034-41CC-811F-9A3787572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7960" y="914040"/>
            <a:ext cx="8128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UM Neue Helvetica 75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960" y="1828440"/>
            <a:ext cx="3966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1828440"/>
            <a:ext cx="3966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4097160"/>
            <a:ext cx="3966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7960" y="914040"/>
            <a:ext cx="8128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UM Neue Helvetica 75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7960" y="1828440"/>
            <a:ext cx="3966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1828440"/>
            <a:ext cx="3966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7960" y="4097160"/>
            <a:ext cx="8128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7960" y="914040"/>
            <a:ext cx="8128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UM Neue Helvetica 75 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7960" y="1828440"/>
            <a:ext cx="8128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7960" y="4097160"/>
            <a:ext cx="8128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7960" y="914040"/>
            <a:ext cx="8128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UM Neue Helvetica 75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7960" y="1828440"/>
            <a:ext cx="3966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1828440"/>
            <a:ext cx="3966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7960" y="4097160"/>
            <a:ext cx="3966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4097160"/>
            <a:ext cx="3966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7960" y="914040"/>
            <a:ext cx="8128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UM Neue Helvetica 75 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7960" y="1828440"/>
            <a:ext cx="261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6200" y="1828440"/>
            <a:ext cx="261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4080" y="1828440"/>
            <a:ext cx="261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7960" y="4097160"/>
            <a:ext cx="261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6200" y="4097160"/>
            <a:ext cx="261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4080" y="4097160"/>
            <a:ext cx="261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7960" y="914040"/>
            <a:ext cx="8128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UM Neue Helvetica 75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7960" y="1828440"/>
            <a:ext cx="8128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1A95-AD2F-4D72-BB90-47DE47ABD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7960" y="914040"/>
            <a:ext cx="8128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UM Neue Helvetica 75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7960" y="1828440"/>
            <a:ext cx="3966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160" y="1828440"/>
            <a:ext cx="3966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3476-2078-47AE-83B5-8FA2A7C05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7960" y="914040"/>
            <a:ext cx="8128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UM Neue Helvetica 75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DFD9-C8FB-4D62-8EC0-CAC0C631B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7960" y="914040"/>
            <a:ext cx="81280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C167-BF4C-4E84-B5E2-579284539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7960" y="914040"/>
            <a:ext cx="8128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UM Neue Helvetica 75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7960" y="1828440"/>
            <a:ext cx="3966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160" y="1828440"/>
            <a:ext cx="3966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7960" y="4097160"/>
            <a:ext cx="3966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596B-3A6D-414F-8D86-9771AE8A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7960" y="914040"/>
            <a:ext cx="8128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UM Neue Helvetica 75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7960" y="1828440"/>
            <a:ext cx="3966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160" y="1828440"/>
            <a:ext cx="3966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160" y="4097160"/>
            <a:ext cx="3966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C84C-0608-4710-A89E-CEA1F579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7960" y="914040"/>
            <a:ext cx="8128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UM Neue Helvetica 75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7960" y="1828440"/>
            <a:ext cx="3966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160" y="1828440"/>
            <a:ext cx="3966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7960" y="4097160"/>
            <a:ext cx="8128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5FDB-B5D9-4BBE-A81F-0FAC4BA2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7960" y="914040"/>
            <a:ext cx="8128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UM Neue Helvetica 75 Bold"/>
              </a:rPr>
              <a:t>Click to edit the title text format</a:t>
            </a:r>
            <a:endParaRPr b="0" lang="en-US" sz="2400" spc="-1" strike="noStrike">
              <a:solidFill>
                <a:srgbClr val="333333"/>
              </a:solidFill>
              <a:latin typeface="TUM Neue Helvetica 75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7960" y="1828440"/>
            <a:ext cx="8128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33"/>
              </a:buClr>
              <a:buFont typeface="TUM Neue Helvetica 55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UM Neue Helvetica 55 Regular"/>
              </a:rPr>
              <a:t>Click to edit the outline text format</a:t>
            </a: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  <a:p>
            <a:pPr lvl="1" marL="743040" indent="-285840">
              <a:spcBef>
                <a:spcPts val="451"/>
              </a:spcBef>
              <a:buClr>
                <a:srgbClr val="333333"/>
              </a:buClr>
              <a:buFont typeface="TUM Neue Helvetica 55 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UM Neue Helvetica 55 Regular"/>
              </a:rPr>
              <a:t>Second Outline Level</a:t>
            </a: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  <a:p>
            <a:pPr lvl="2" marL="1143000" indent="-228600">
              <a:spcBef>
                <a:spcPts val="451"/>
              </a:spcBef>
              <a:buClr>
                <a:srgbClr val="333333"/>
              </a:buClr>
              <a:buFont typeface="TUM Neue Helvetica 55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UM Neue Helvetica 55 Regular"/>
              </a:rPr>
              <a:t>Third Outline Level</a:t>
            </a: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  <a:p>
            <a:pPr lvl="3" marL="1562040" indent="-228600">
              <a:spcBef>
                <a:spcPts val="451"/>
              </a:spcBef>
              <a:buClr>
                <a:srgbClr val="333333"/>
              </a:buClr>
              <a:buFont typeface="TUM Neue Helvetica 55 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UM Neue Helvetica 55 Regular"/>
              </a:rPr>
              <a:t>Fourth Outline Level</a:t>
            </a: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  <a:p>
            <a:pPr lvl="4" marL="1981080" indent="-228600">
              <a:spcBef>
                <a:spcPts val="451"/>
              </a:spcBef>
              <a:buClr>
                <a:srgbClr val="333333"/>
              </a:buClr>
              <a:buFont typeface="TUM Neue Helvetica 55 Regula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UM Neue Helvetica 55 Regular"/>
              </a:rPr>
              <a:t>Fifth Outline Level</a:t>
            </a: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  <a:p>
            <a:pPr lvl="5" marL="1981080" indent="-228600">
              <a:spcBef>
                <a:spcPts val="451"/>
              </a:spcBef>
              <a:buClr>
                <a:srgbClr val="333333"/>
              </a:buClr>
              <a:buFont typeface="TUM Neue Helvetica 55 Regula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UM Neue Helvetica 55 Regular"/>
              </a:rPr>
              <a:t>Sixth Outline Level</a:t>
            </a: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  <a:p>
            <a:pPr lvl="6" marL="1981080" indent="-228600">
              <a:spcBef>
                <a:spcPts val="451"/>
              </a:spcBef>
              <a:buClr>
                <a:srgbClr val="333333"/>
              </a:buClr>
              <a:buFont typeface="TUM Neue Helvetica 55 Regula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UM Neue Helvetica 55 Regular"/>
              </a:rPr>
              <a:t>Seventh Outline Level</a:t>
            </a: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0796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TUM Neue Helvetica 55 Regular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CAADE-02DF-499F-8E6B-0DEA1C96665D}" type="datetime">
              <a:rPr b="0" lang="en-US" sz="1200" spc="-1" strike="noStrike">
                <a:solidFill>
                  <a:srgbClr val="333333"/>
                </a:solidFill>
                <a:latin typeface="TUM Neue Helvetica 55 Regular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590920" y="6400440"/>
            <a:ext cx="3962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TUM Neue Helvetica 55 Regular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UM Neue Helvetica 55 Regular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3092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TUM Neue Helvetica 55 Regular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B2E45-BFC0-4722-A7B5-A77C874A3835}" type="slidenum">
              <a:rPr b="0" lang="en-US" sz="1200" spc="-1" strike="noStrike">
                <a:solidFill>
                  <a:srgbClr val="333333"/>
                </a:solidFill>
                <a:latin typeface="TUM Neue Helvetica 55 Regula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7960" y="1828800"/>
            <a:ext cx="8128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UM Neue Helvetica 75 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TUM Neue Helvetica 75 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4"/>
          </p:nvPr>
        </p:nvSpPr>
        <p:spPr>
          <a:xfrm>
            <a:off x="507960" y="6400440"/>
            <a:ext cx="8128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TUM Neue Helvetica 55 Regular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UM Neue Helvetica 55 Regular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UM Neue Helvetica 55 Regular"/>
              </a:rPr>
              <a:t>Click to edit the outline text format</a:t>
            </a: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  <a:p>
            <a:pPr lvl="1" marL="45720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UM Neue Helvetica 55 Regular"/>
              </a:rPr>
              <a:t>Second Outline Level</a:t>
            </a:r>
            <a:endParaRPr b="0" lang="en-US" sz="1400" spc="-1" strike="noStrike">
              <a:solidFill>
                <a:srgbClr val="333333"/>
              </a:solidFill>
              <a:latin typeface="TUM Neue Helvetica 55 Regular"/>
            </a:endParaRPr>
          </a:p>
          <a:p>
            <a:pPr lvl="2" marL="914400" algn="ctr">
              <a:spcBef>
                <a:spcPts val="349"/>
              </a:spcBef>
              <a:buClr>
                <a:srgbClr val="333333"/>
              </a:buClr>
              <a:buFont typeface="TUM Neue Helvetica 55 Regular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UM Neue Helvetica 55 Regular"/>
              </a:rPr>
              <a:t>Third Outline Level</a:t>
            </a:r>
            <a:endParaRPr b="0" lang="en-US" sz="1400" spc="-1" strike="noStrike">
              <a:solidFill>
                <a:srgbClr val="333333"/>
              </a:solidFill>
              <a:latin typeface="TUM Neue Helvetica 55 Regular"/>
            </a:endParaRPr>
          </a:p>
          <a:p>
            <a:pPr lvl="3" marL="1333440" algn="ctr">
              <a:spcBef>
                <a:spcPts val="349"/>
              </a:spcBef>
              <a:buClr>
                <a:srgbClr val="333333"/>
              </a:buClr>
              <a:buFont typeface="TUM Neue Helvetica 55 Regular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UM Neue Helvetica 55 Regular"/>
              </a:rPr>
              <a:t>Fourth Outline Level</a:t>
            </a:r>
            <a:endParaRPr b="0" lang="en-US" sz="1400" spc="-1" strike="noStrike">
              <a:solidFill>
                <a:srgbClr val="333333"/>
              </a:solidFill>
              <a:latin typeface="TUM Neue Helvetica 55 Regular"/>
            </a:endParaRPr>
          </a:p>
          <a:p>
            <a:pPr lvl="4" marL="1752480" algn="ctr">
              <a:spcBef>
                <a:spcPts val="349"/>
              </a:spcBef>
              <a:buClr>
                <a:srgbClr val="333333"/>
              </a:buClr>
              <a:buFont typeface="TUM Neue Helvetica 55 Regular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UM Neue Helvetica 55 Regular"/>
              </a:rPr>
              <a:t>Fifth Outline Level</a:t>
            </a:r>
            <a:endParaRPr b="0" lang="en-US" sz="1400" spc="-1" strike="noStrike">
              <a:solidFill>
                <a:srgbClr val="333333"/>
              </a:solidFill>
              <a:latin typeface="TUM Neue Helvetica 55 Regular"/>
            </a:endParaRPr>
          </a:p>
          <a:p>
            <a:pPr lvl="5" marL="1752480">
              <a:spcBef>
                <a:spcPts val="349"/>
              </a:spcBef>
              <a:buClr>
                <a:srgbClr val="333333"/>
              </a:buClr>
              <a:buFont typeface="TUM Neue Helvetica 55 Regula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UM Neue Helvetica 55 Regular"/>
              </a:rPr>
              <a:t>Sixth Outline Level</a:t>
            </a:r>
            <a:endParaRPr b="0" lang="en-US" sz="1400" spc="-1" strike="noStrike">
              <a:solidFill>
                <a:srgbClr val="333333"/>
              </a:solidFill>
              <a:latin typeface="TUM Neue Helvetica 55 Regular"/>
            </a:endParaRPr>
          </a:p>
          <a:p>
            <a:pPr lvl="6" marL="1752480">
              <a:spcBef>
                <a:spcPts val="349"/>
              </a:spcBef>
              <a:buClr>
                <a:srgbClr val="333333"/>
              </a:buClr>
              <a:buFont typeface="TUM Neue Helvetica 55 Regula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UM Neue Helvetica 55 Regular"/>
              </a:rPr>
              <a:t>Seventh Outline Level</a:t>
            </a:r>
            <a:endParaRPr b="0" lang="en-US" sz="14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7960" y="1828800"/>
            <a:ext cx="8128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3418"/>
              </a:solidFill>
              <a:latin typeface="TUM Neue Helvetica 75 Bol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07960" y="3429000"/>
            <a:ext cx="8128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84" name=""/>
          <p:cNvSpPr/>
          <p:nvPr/>
        </p:nvSpPr>
        <p:spPr>
          <a:xfrm>
            <a:off x="539640" y="5516640"/>
            <a:ext cx="799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7960" y="914040"/>
            <a:ext cx="8128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UM Neue Helvetica 75 Bol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960" y="1828440"/>
            <a:ext cx="8128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12:07:54Z</dcterms:created>
  <dc:creator>Thomas Rampp</dc:creator>
  <dc:description/>
  <dc:language>en-US</dc:language>
  <cp:lastModifiedBy>schmitt</cp:lastModifiedBy>
  <dcterms:modified xsi:type="dcterms:W3CDTF">2009-01-16T10:09:41Z</dcterms:modified>
  <cp:revision>27</cp:revision>
  <dc:subject/>
  <dc:title>PowerPoint-Präsentation</dc:title>
</cp:coreProperties>
</file>