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7640" y="377316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978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0456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0148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764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0456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0148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26920" y="47520"/>
            <a:ext cx="78487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4978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07640" y="377316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4978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0456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0148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0764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00456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0148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26920" y="47520"/>
            <a:ext cx="78487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978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032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20000" y="765000"/>
            <a:ext cx="324000" cy="609300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75640" y="765000"/>
            <a:ext cx="468360" cy="6089760"/>
          </a:xfrm>
          <a:prstGeom prst="rect">
            <a:avLst/>
          </a:prstGeom>
          <a:solidFill>
            <a:srgbClr val="a1a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75640" y="0"/>
            <a:ext cx="468360" cy="76032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41920"/>
            <a:ext cx="8823240" cy="31752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5888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675640" y="0"/>
            <a:ext cx="0" cy="685800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4696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87280" y="6548400"/>
            <a:ext cx="838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956120"/>
                <a:tab algn="r" pos="7053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ER THEMA EINTRAG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69920" y="149400"/>
            <a:ext cx="514440" cy="47124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675640" y="6553080"/>
            <a:ext cx="468360" cy="304920"/>
          </a:xfrm>
          <a:prstGeom prst="rect">
            <a:avLst/>
          </a:prstGeom>
          <a:solidFill>
            <a:srgbClr val="a1b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675640" y="6553080"/>
            <a:ext cx="4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956120"/>
                <a:tab algn="r" pos="7053120"/>
                <a:tab algn="l" pos="7315200"/>
                <a:tab algn="l" pos="8229600"/>
                <a:tab algn="l" pos="9144000"/>
                <a:tab algn="l" pos="10058400"/>
              </a:tabLst>
            </a:pPr>
            <a:fld id="{4867CA0D-20E9-45EC-B6D7-0FD2CB381632}" type="slidenum">
              <a:rPr b="1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3240"/>
            <a:ext cx="9144000" cy="1122480"/>
          </a:xfrm>
          <a:prstGeom prst="rect">
            <a:avLst/>
          </a:prstGeom>
          <a:solidFill>
            <a:srgbClr val="939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5120" y="231840"/>
            <a:ext cx="722160" cy="67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36840" y="1125360"/>
            <a:ext cx="6032520" cy="4967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099120"/>
            <a:ext cx="1600200" cy="758880"/>
          </a:xfrm>
          <a:prstGeom prst="rect">
            <a:avLst/>
          </a:prstGeom>
          <a:solidFill>
            <a:srgbClr val="939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19240"/>
            <a:ext cx="1608120" cy="4979880"/>
          </a:xfrm>
          <a:prstGeom prst="rect">
            <a:avLst/>
          </a:prstGeom>
          <a:solidFill>
            <a:srgbClr val="b9c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96960" y="6093000"/>
            <a:ext cx="7547040" cy="765000"/>
          </a:xfrm>
          <a:prstGeom prst="rect">
            <a:avLst/>
          </a:prstGeom>
          <a:solidFill>
            <a:srgbClr val="7d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4221000"/>
            <a:ext cx="5977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0"/>
            <a:ext cx="1619280" cy="1106640"/>
          </a:xfrm>
          <a:prstGeom prst="rect">
            <a:avLst/>
          </a:prstGeom>
          <a:solidFill>
            <a:srgbClr val="7d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1116000"/>
            <a:ext cx="1619280" cy="4977000"/>
          </a:xfrm>
          <a:prstGeom prst="rect">
            <a:avLst/>
          </a:prstGeom>
          <a:solidFill>
            <a:srgbClr val="b9c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912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596960" y="1112760"/>
            <a:ext cx="0" cy="57484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1276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31200" y="6480"/>
            <a:ext cx="0" cy="609264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22400"/>
            <a:ext cx="4608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Lehrstuhl Netzarchitekturen und Netzdien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itut für Informa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echnische Universität Mün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64360" y="6165720"/>
            <a:ext cx="1812960" cy="582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95280" y="6165720"/>
            <a:ext cx="638280" cy="692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6:53:32Z</dcterms:created>
  <dc:creator>Andreas Klenk</dc:creator>
  <dc:description/>
  <dc:language>en-US</dc:language>
  <cp:lastModifiedBy>Schmitt</cp:lastModifiedBy>
  <dcterms:modified xsi:type="dcterms:W3CDTF">2008-11-21T09:25:23Z</dcterms:modified>
  <cp:revision>110</cp:revision>
  <dc:subject/>
  <dc:title>Template</dc:title>
</cp:coreProperties>
</file>